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66053"/>
        <c:axId val="64767558"/>
      </c:barChart>
      <c:catAx>
        <c:axId val="59966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67558"/>
        <c:crosses val="autoZero"/>
        <c:auto val="1"/>
        <c:lblAlgn val="ctr"/>
        <c:lblOffset val="100"/>
        <c:noMultiLvlLbl val="0"/>
      </c:catAx>
      <c:valAx>
        <c:axId val="64767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66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84F-1911-470E-9C64-548C9E5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75B-B20F-49F9-AF43-BCEC241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E6B-45B3-4DCC-8914-54C9E17B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696-CF30-417D-9A61-C93DAD7E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250-EDD9-4740-B511-E6351453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5DC-FC34-4CA6-9CDB-BC28EB8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5DE-ECDF-4385-A3ED-62EB0A97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7EE-C05C-4603-977D-87FF679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998-1ADA-41B0-97EB-3E5CE7D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42A-C6F3-4F11-8629-56C9E67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80E-CCCE-44EE-83FF-29EFB2A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3AE-C27C-4F40-B934-A185D57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56BA-809A-4824-9863-6266C6A7D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