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27336"/>
        <c:axId val="64921035"/>
      </c:barChart>
      <c:catAx>
        <c:axId val="1302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21035"/>
        <c:crosses val="autoZero"/>
        <c:auto val="1"/>
        <c:lblAlgn val="ctr"/>
        <c:lblOffset val="100"/>
        <c:noMultiLvlLbl val="0"/>
      </c:catAx>
      <c:valAx>
        <c:axId val="64921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A92-EB93-42E7-B458-23EBF10B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5F7-52E0-488C-8285-3143F96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E69-A959-4F7E-B330-5A07960E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17E-7D00-42B5-B749-67AAD9EE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A2C-FE67-4979-B0FB-D51D3687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AA4-D249-4174-AC1B-1893362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BE0-8851-4A59-8E63-681F679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19E-C5E8-4A2F-AACC-BEBFCA0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78A-5E7E-477A-A014-E1AAD36F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40B-8B22-4BEC-8293-70BA0BF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50F-0805-4BA5-8546-8FF0B69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605-C607-4000-96C7-F042E110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13574-0AEE-4D58-BAD9-9EF73706A5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