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988037"/>
        <c:axId val="83750629"/>
      </c:barChart>
      <c:catAx>
        <c:axId val="509880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750629"/>
        <c:crosses val="autoZero"/>
        <c:auto val="1"/>
        <c:lblAlgn val="ctr"/>
        <c:lblOffset val="100"/>
        <c:noMultiLvlLbl val="0"/>
      </c:catAx>
      <c:valAx>
        <c:axId val="837506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9880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E439-7EE7-4705-82A9-F1F91723C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3C30-A68C-4855-95BB-E31BE5FCD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9535-2E0C-45D5-951F-A3E0D6AD9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9986-4F9E-4338-A863-8EC6178E6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91C2-8B41-4F9F-BAD5-7013256AB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8020-9D4B-4505-A7C2-D201C441E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95A7-5DA8-46E6-B6AF-BAD096BAC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9B34-55CB-4142-BA8B-77E670E93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6695-46C4-4BB5-BFF4-7280ABB4D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E2D5-8F93-44DA-B293-1E851D81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4E4C-9B44-4D49-8110-1D2BC5C2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52B0-4002-436B-81B3-4100F971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A6F55D-DBE1-43D9-9CA8-4D55C45AE2F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