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95056"/>
        <c:axId val="43126424"/>
      </c:barChart>
      <c:catAx>
        <c:axId val="60695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26424"/>
        <c:crosses val="autoZero"/>
        <c:auto val="1"/>
        <c:lblAlgn val="ctr"/>
        <c:lblOffset val="100"/>
        <c:noMultiLvlLbl val="0"/>
      </c:catAx>
      <c:valAx>
        <c:axId val="43126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5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DB1-67EE-4115-A728-AC24A8CB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918-A9DC-4CA2-80EB-E706C28B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6E4-CB99-483D-9D70-FE074FA8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B1F-634F-4352-985C-C45E8643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663-B40D-4474-8DE2-20609FDD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659-D3AD-4385-BCC0-005B0A3D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661-B92E-4CB2-8978-A52B708F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0E3-D092-4493-AC67-6A6778F0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39C-C874-49AE-A186-991C0E69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6AE4-8BEB-4F20-9EEB-FFAFD280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41B-7996-4DA3-B5EC-FA6B6AFC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AA9-339C-4387-95D5-17645AF3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7FFEC-B719-4040-A76E-125B80D56F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