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8E5F-CE3B-4D7A-AE97-F9C6D697C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0833E-E175-4EA1-BA80-7E63AA3BC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2B19-7F48-43C3-97B3-85E090237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3C58F-28DA-4743-9931-6746E10C2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5A758-2966-4D88-8CDE-A223A8203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4DB99-0A29-4FFF-ADFA-246E79A3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552F5-FDD0-4925-8539-7249F4CE1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55A5-9D78-413C-8C17-7DC4E7D9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C050-64D7-4DC8-A19C-58CE84BD2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8D73C-6EA7-491D-AE6F-683B1221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DD68-8C77-4571-9525-4C2ACFC6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05E9-6E7D-4764-AD39-65B3B20A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2145-99C6-4449-97A6-94B7979E3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F234-718A-477D-8A55-78BDE57E49DB}" type="datetime3">
              <a:rPr b="0" lang="en-US" sz="1400" spc="-1" strike="noStrike">
                <a:solidFill>
                  <a:srgbClr val="ffffff"/>
                </a:solidFill>
                <a:latin typeface="Times New Roman"/>
              </a:rPr>
              <a:t>July 30,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4EDF-6B03-441E-96EB-896230BA64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86EF92-09C9-418A-9850-157B121934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140532-C40B-4056-BD77-BA4E762AA0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24D944B-BD17-4F10-8178-D251116FE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FBCFC9-9A34-4D2A-9900-55AFA2F8F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C6D0F1-1369-4BFD-A806-404CB7B09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6E8276-64ED-41BD-BB0F-AC9C7BA3A76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0FE7776-5B34-439A-BF49-5AEE2AC160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B52605-4D2D-46D4-AFAA-3F0DE71491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B78ECC-8248-46C1-9453-461DD1AC68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2E6EA7-4A37-476E-8787-9945DAAC0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E48964-5C50-4371-8F27-49FF6D3CBF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68B04B-3AB7-4854-8D91-5CD8AC79C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2A6116-E9CF-4CD4-BBD6-151439523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295406-F368-41BD-B341-EFF52CB13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