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FDD1A2BB-55A7-4E2B-B3FE-D0EBA965E126}"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9046D14-E931-4F09-AF78-CBDA78A9D38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0EE7AE-2FC0-4195-B82A-BC36516421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09F852A-B110-449E-A1BB-2013C3107F3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A020101-9E25-45FF-8719-55D0F0D4FE5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A560216-4B16-42DA-950E-7E9BE30A80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DB19B0D-91E2-4AC9-AC55-A832BE3EF3D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64FF7F6-393A-486B-A750-8A3B9F64D9D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BB66C70E-840B-4A2F-8484-4B8E47668CBD}"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38592F6-C4BC-4A30-9C15-409E20EA310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28A0EA3-787B-48F4-8EEA-BEDB64681954}"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0CCF4F2A-0130-4C54-A28D-DE2C022C882C}"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262559F7-C785-402A-BC9B-F60C69A19C23}"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E3DB8AC4-9774-4454-A35E-6B8E8D0D084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F66AAE7D-25D7-46DA-AABE-27A20FFF38EF}"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892D094B-4F1C-4CE0-A0C8-0EFA724DBEE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097EC8D-A660-4AA1-8D2D-0BCBD6A762B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6BD889E-3447-4BD5-8210-8E9EC252908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EF7B4C05-6507-4DC7-ACFD-F08D290A03E0}"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F39BC3D-A8EE-490A-8B38-F23B9845E0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22DEBA9-62D0-4457-8232-446459B86A9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F82FE7B-544B-4BAB-9FD4-017DF85ABB75}"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7630E13-F02E-4A1B-B4D1-2378DE342CE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9696EB6-FA13-4E82-B37E-6E92789F336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9E35B6-3747-4856-987D-30546AE6E3C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6F047F5-A5B8-4FDF-B9FE-76A83AC00839}"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7CE98FC5-FE80-4072-A992-A8F5F5A13647}"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1D141FB-D415-4DD8-A32C-851C8F1A22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0E079494-1112-482A-AA1F-4E7E3F07E51A}"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39DCE15-8FDD-433C-BBCE-236FFDCA033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5E5AC9E-1AB9-4E3A-8C2D-6B8CC3EBEAB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2A8DB92-5BDD-410F-B591-91EE37C3DA2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76FA0758-2F7C-404B-80F1-444AA18D731C}"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89F937E-F754-4CB1-B184-F8FA2D49565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4DF6CBB-E128-4029-9188-A2D390C1971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7BA991C-C217-4E7D-B7A3-7D538C7E59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AF6B7F5-6819-4358-8AD8-9AE9F4AECB6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B4681DB-387E-45F9-AA41-B38B9794F5CB}"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23A67A7-2160-41AF-8E81-AE4DCDC340A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D79A149-1C2B-4BE0-A9F9-65EA1D2AD97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56D021F-F223-42D1-9A2A-6D189E562B0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A760A1C8-B523-4C73-821C-C97E63B6D60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26EA10F-8DB5-4381-B0B9-3CA4EA1C17D9}"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E45DB81-A12B-49D1-955D-4E8822591DF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8E054075-6FD4-4CF7-B0B1-CE739E0E6FDC}"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DD997B09-AE2A-4CC7-86A8-0E88CE6E9168}"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4A1FEF9-8E2C-48FA-8528-0B186D8836C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1B60BBE7-3D7C-44D2-91CC-A060BC648C27}"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F6E425FA-4A20-44FF-B123-304C89A5A77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F9A87676-8708-480B-A1C8-FF3286530D5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DD37ADF-A063-4DAC-96B2-7A13AA788CA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0A58A20A-ACEE-44EA-8BA5-8D75CF99233A}"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932F6EEB-1FA6-4079-BE13-08EE3088AED7}"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1368F74-D960-4141-A403-CD395C5EB0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C0F5D6E-8FFE-4C7F-B985-30D7DE702D1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B9C1A1E4-B14E-4107-AF90-E5E0A68CCBD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B013E52E-107E-436C-9C2C-884B64CD94B8}"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20334B0-18F7-41E0-867D-97D9FFAB7E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350CF5E-ACF6-489C-870A-75FDA01FCD5C}"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097023FC-40CC-42CC-A4EF-5873013C4DF0}"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BBF7F97-402C-4906-9125-83D7D426571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E7308AD0-99A6-4251-AD91-17A43063690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2FF053-02F3-4AFD-8519-DE69F97B238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AA7C9DA-5A73-422C-887B-95F2671E214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B21BFC9-10F6-42BA-94D4-EA2B9C6E0679}"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2EA637F-9B50-4D57-9269-A59BB46D6A1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1A849BB-4448-4A2C-AF76-F92BB758FC12}"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FC5C5375-57EE-450F-A7D6-5F2D1CFD7C6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388F03-CFC0-4835-A9AD-6C15429A49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52C03ECB-6CB5-4448-87D5-0AC8CB6EF35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0E906225-5238-4D0E-B490-FA5DF3D8B8FA}"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8C0B6F2-79FF-40DF-AA98-E0422036818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896CE17-DA89-4A7A-B3AC-FF0324F48F70}"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1CE8A7FB-9B7D-488D-B7B6-15AFC8ED275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7B85B9-04DC-4ECE-A1AD-FEA8589A643B}"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C926A5-1BCF-4B8E-A271-3668B9C8D86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5B848C5C-8EA9-4733-87A3-EEAAF6AB62D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F96F74B3-C75B-415F-ADFF-5BA68CC3F8E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63D7016B-BCE5-4894-8938-2A719B74940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380792-80C8-43AD-AE7A-9561D9BD92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ED9DA8D-8755-472C-BD01-67F198668F3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CFCCC41-2B1C-4450-A8CB-2167A9BF1AE1}"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0C42114D-158B-41E0-B2F8-0A3AB3CCCB24}"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A69FCADB-583C-4B98-B9E2-8E5D8F4AC8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8FEF5FB8-CD97-4F2C-8C97-6A3BA41C5F26}"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C96ED765-022D-4092-B05A-56A75769916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5B07932-D341-4224-BCCE-0F359B9680F7}"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B947AD0-35AA-44FD-95D1-69224A002F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74653CEA-FF7D-4882-912A-880CB8F935C7}"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4C96F09E-BDAE-46FD-88CF-EBF4122DEFD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531BA3-9F62-4235-B85C-40BA94C0D47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FBE14CC-97FF-46F3-8C8F-A1A8C724C9F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D870589A-7F98-45FB-800B-236E4EEF0106}"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AEADD025-621B-47F1-BC63-F406CEBF38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EA452CFD-F1D4-4E56-976F-C44DC20E23A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8A5B55F-46EB-4DA6-9879-43EA05C0132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B5C70C2A-C954-471D-963B-3B9FA069619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D4AD13CA-4ED0-4190-9F21-873688CF2A80}"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09278B6-D98B-4EFE-9FE6-F1D1910278F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CA07835-F4D9-43EA-B16D-9603C0AD6837}"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766C4C51-E11D-4A48-A52C-CAFEE0DC0C7F}"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66F6558-A8EA-457C-873F-06C62A6E9FE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E5EA078-D253-4DDE-B531-F0F744BF3B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1435E1D-5F63-4240-BA10-2CD12F484D1A}"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D83ED0C-8189-404C-AEC9-E5224BAE185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ACD7306-498F-4A6E-B141-7F72C3FED4D9}"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BCD0F90A-7AC6-4F6D-A48A-6727923A8A9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C01B1FF-6FCC-4951-BC4A-C47FCAA37D3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98BD008-0EE7-4840-956A-2E7FA09D631F}"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42D8DC9-3541-45AA-B0D0-8A448DA4953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B237B715-7D77-413B-8122-4C83646BB0B9}"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0BB14B63-7BEE-4BC3-901A-F938575EBDC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C2F7BA8F-52B0-460F-BC19-CAE0A526358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A9E047-F95B-4DCD-A781-42A4661E8E2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CF58B164-CEC9-4FB5-B510-B865DD08C813}"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4147E4E-F01D-4A01-8B58-2E1FC3C56C3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D0BD8DD9-9CEA-4A20-92AA-929A4A5C538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366CCF-AB39-4AFC-8907-A776199F82B9}"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C335A261-390B-4FD6-9CD7-E3F26DAF02E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9F27B0A-F80B-4583-B0D3-02F35CFD309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4408A24-F284-4EE3-BF11-F3D4B90DD16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223A6406-3454-4979-837F-B6BA1E3CB71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643428C-40F1-4428-804E-6DB7903DA60B}"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1926237-870C-4E2A-A739-68F593347735}"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A0F6D1B-9509-41C0-AB4C-881B2571208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7FEBDDC1-D75D-42A9-BB5E-FABCCA16A3B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960ADD-0583-4417-AD62-2B55351F4C8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3D9920E-48D5-44A3-AD28-418907B392E1}"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394E09-F743-42CE-B7EA-6D1EB77DD83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9EAE87A-4686-4344-B2AA-6AD5845F1F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9A4927-FCC2-4F86-8CB9-D8DD2CFD1C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6B9453-31AC-43B9-940D-4CB3CE0E5CF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82528FC9-84CC-4AE1-8B58-82F85A24F3E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6E4AB7A-D6EA-460D-A185-B18E908877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349096A-66DB-4A22-9CA1-4C1EA3BFBB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E82B753-2329-4C61-B54C-DAE4FEA9445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58ED2F0-2C3C-4D04-A788-0C155F43A31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C9FA6E9-1A86-42D8-9A67-E15CAABE9CA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02206E4-428B-4C7A-A3BE-8DC128F8D4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7C2398F-21D3-47F3-94B4-87952132E99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18B17F39-D5D2-4AD7-AECB-19F1B810882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8F280B0-F882-4159-8CBB-A32884F17F3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912EE7F-3EF0-4E4A-B153-0093EAF7031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48B7973-DBF1-424E-99B6-1C17D9E4BC4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DAD080CA-E621-40EB-90ED-8871C9CF38A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66601EC-4C54-4670-B78A-8D93165F5639}"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D248DF2-F8F1-4B29-8B1A-72D9D423CE2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A7FB15C-7CEF-4946-8778-5854DB4FD35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7B02035-2AFA-47A2-9017-103FA96003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55C82E4-229F-44DE-B884-1DE0E4CAF72F}"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BF6DC5-B462-4E9F-931F-9887929ACA0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5122BA6F-EDDC-4FD5-9B4C-BC1812885468}"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C0A379-9B4B-40CF-A1DD-8F89F00A19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8833422-9B69-4711-BD0D-299F4B069C1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B455BE04-3C44-4F34-82DA-BD86D638D1C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F53766A-E312-435F-8847-D6DEE7F450E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945DCD4-989C-454C-895B-39A6B28D6706}"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9EB5222-2117-4E05-ACCA-74AF75B4F92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388A22A-970D-4DD1-8EE8-33DA8B9A88A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143BF1E-FEC1-4B15-9412-C73CDCC55DA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DE79D0F6-2BA0-4642-90B4-C7C274AB8B1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907C16E-ED04-4F52-A06C-60699B9F066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3574D71-6389-4005-B62C-039741C5173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7245C-32F1-4224-9A49-02EC76DB2E1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B27AEFF2-59E0-424B-8865-8C409DD8AC0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1B6B4A4D-F42A-464D-B29F-F89F2FE3E3F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A0B1E31-2506-4384-A5F5-FB7B29EA94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68EB45B-2FC2-425C-8D70-4D5461DA6B19}"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B61687A-13A7-4611-B11A-40A9416DBD1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AB48EE96-BD0A-4D40-84FC-BDDBEB1696DA}"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9AFF333-9337-4B00-8215-99CA0398A0C9}"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C32A3B0-8A78-4520-86F8-F04F634D74D9}"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7BF6430-24F9-4A22-A9F2-E2E2EBC037A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E441865-94C4-42EF-8455-3A4ACDFF051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88E28E-99E4-492A-A102-03E5680FFE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34D82A-6C56-4230-AA4F-CED8EC9CAA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BC35C8D-02E6-458B-94C3-A6D02DC65DA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0FE3588-C3B3-41A5-B541-9C2C187A3BD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99E66DF8-8A7E-4D91-9642-24835077E11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17FDAC4-2DD2-4641-84AC-73C5BA9E5D81}"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DD1469E9-92FB-4E26-9B8D-E74C7D29CA0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20D9A0B-E379-4EE6-AEB2-27504A398B9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D660131-D7D0-4524-B5A9-E58AFD8276F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B76F0C8B-41C4-4FA4-80C2-D518977507B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DB80DA2-38B8-4C26-A9BD-E7068473F76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BE50D3-7EA1-43A2-A60F-D50BDFE5F42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A65011B0-2716-42E5-B199-1E3FA500C898}"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6A1A2A7-7213-4DAA-A218-B913D60FDB97}"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ADACD699-3DE5-4DD9-9D55-D5F0BB81472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8736511-2C54-42B9-A6EC-353DD4FE730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E3DD3FA7-910F-4CF0-B797-E7DAB108B93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290CAF07-5892-456F-8F5B-CDAC1E46EDF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2B16E68-F6CB-43BC-B0E7-EAC9A44EF567}"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D1E408F-5259-4D69-90D2-3A5874F89B9D}"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82EF3A0-9B94-4D0B-B6FF-A00B21254AC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4DE94B5-BA86-4411-A471-F72CE8CDF18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20B06967-6FEF-4A82-843C-6E1548EE374D}"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AB8CFE7-EE5A-4227-BBD4-913A62DD582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4928C4A-7A74-4EB9-9EEF-0442ED4017E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1B7CD9C-A8EC-469F-88C2-AC9349AD06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50A3A92-9D4E-4503-ACC7-7E24E0EBB0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FCE68A6-34B9-43B2-A01F-6C601B89E44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7250814-5377-4CC2-9CC3-40EFADD4A80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759621B-8AD6-417C-A32B-14EEFEDE6F5A}"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EDDAAF-EC9F-430F-81B9-E6102CAB494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8E5FA42-469E-4A69-B530-BB9E975216C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2443509-9C5A-4BD4-A088-F9E67FA12D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26F57D6-DB34-409D-95B2-B1A64C1159D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F621715-AAC8-4D66-B864-6581EDA245E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9C56F4-6743-4209-B580-1DC3C8732A2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D042890-6269-48C2-9FC0-CE73501ED9D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BD33F9-2EC1-4983-821C-C7FF8F1BFAE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