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4755"/>
        <c:axId val="47271724"/>
      </c:barChart>
      <c:catAx>
        <c:axId val="9794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71724"/>
        <c:crosses val="autoZero"/>
        <c:auto val="1"/>
        <c:lblAlgn val="ctr"/>
        <c:lblOffset val="100"/>
        <c:noMultiLvlLbl val="0"/>
      </c:catAx>
      <c:valAx>
        <c:axId val="47271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4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B09-0B49-4347-B2AB-BE94DC23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A6F-B60D-48F8-9907-79D6CD68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9D8-7914-467B-BC60-A4E1FF5B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5A5-4066-4AA8-9A49-F8B68E2A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F8F-ED59-4E22-BBB3-CC8625D3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EDD-59B9-4626-B94D-2173CB3E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029-5D4F-4508-82A5-44D53328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FB1-A4AE-4D29-A7C0-289735BF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897-DAF9-4ADF-A9A5-F7FD3BA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A62-ADD4-42C0-8030-012F300E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567-C1E3-4D79-B26D-5569B910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304-122C-45FA-913D-20101B8F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70EF3-D140-4D4D-BDE5-F995E9E155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