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88415"/>
        <c:axId val="52093086"/>
      </c:barChart>
      <c:catAx>
        <c:axId val="823884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93086"/>
        <c:crosses val="autoZero"/>
        <c:auto val="1"/>
        <c:lblAlgn val="ctr"/>
        <c:lblOffset val="100"/>
        <c:noMultiLvlLbl val="0"/>
      </c:catAx>
      <c:valAx>
        <c:axId val="520930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884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1560-2FDD-48A6-87F4-92E294D2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D2E3-BAB8-4A20-8688-C74C6801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3D6F-15A9-49BD-B32B-236DCA06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72AB-F0AF-4A62-9450-782F55F6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B0ED-6BC9-4935-86ED-F56962BA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9145-BA7A-4657-8250-BFE1B711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3946-4AA2-43AA-866B-C70FC179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268D-AF64-4FA4-82DF-D9FE8561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27C1-E75C-4325-B3EA-EAD5C354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7798-A773-4DC1-817E-512DAAA3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31B5-98AA-43AC-94F9-991BFA83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FC3B-DA20-47F8-9EC8-7900EB86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F3128-131F-4275-B563-25DD9D7FCE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