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04437"/>
        <c:axId val="1616261"/>
      </c:barChart>
      <c:catAx>
        <c:axId val="95704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6261"/>
        <c:crosses val="autoZero"/>
        <c:auto val="1"/>
        <c:lblAlgn val="ctr"/>
        <c:lblOffset val="100"/>
        <c:noMultiLvlLbl val="0"/>
      </c:catAx>
      <c:valAx>
        <c:axId val="1616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04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4C2-9006-407A-BE5F-DC73FA01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958-72AC-4033-B4CF-82A8FD5E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D45-2D5E-4212-93A2-FBEB6644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866-63DF-4BBA-B87C-54B4AB4B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A0A-078A-4E35-8E8B-94A4542F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225-4761-4A43-91E5-A5C15F10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2DF-773D-45E6-97C7-9D9DAD46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7E4-EE85-40C6-A892-9BF5D566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C9D-F5E3-4033-947E-ADEE4DAB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86D-C057-4C16-A973-3C418D9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7CE-7E53-4AD6-B2AF-EA5BB9D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2B2-1B40-45BC-A1F4-60D48F1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6AE19-81F1-49BE-8F7C-1DBC649D69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